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6104-BE21-4D5C-9B09-DA76CB49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7B4-CCB2-4771-862A-CD6C0C0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6187-9669-4DDA-B37E-2856A841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248-D37E-4232-A1D7-B12D1B96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587-8DF8-49D5-AD69-8C3214CA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0E41-EDE1-4E09-996D-649F60F8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362-ED66-4E90-8091-DB776D9A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E1CF-DA9C-4639-A27D-657E6A8B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8EF-5082-4952-861C-CB4CCDBC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C60E-8A49-4F54-99A4-405C0DAF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EFF-E2EA-43B3-B0FE-9AFB82EE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198D-B10A-458E-9D25-D29982F2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AFF8-6D73-47AC-BBFB-144772F94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2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formation for the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overs Chapter 1 –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conjuga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“was, wer, wi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s and goodb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how to ask and answer questions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like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 “gern” and “nicht ger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ble to write about some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= (2 ques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9:45:45Z</dcterms:created>
  <dc:creator>udsd</dc:creator>
  <dc:description/>
  <dc:language>en-US</dc:language>
  <cp:lastModifiedBy>udsd</cp:lastModifiedBy>
  <dcterms:modified xsi:type="dcterms:W3CDTF">2009-03-04T19:46:54Z</dcterms:modified>
  <cp:revision>1</cp:revision>
  <dc:subject/>
  <dc:title>Slide 1</dc:title>
</cp:coreProperties>
</file>